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A34-1855-4F33-9425-AA81EE50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10F-02E9-46C0-90BB-80FC5F07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BD7-16A8-4F83-822D-4686063C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312-F17A-43A0-B59D-3BA4676F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55E-5ACD-4579-A5FE-8B1DE584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3AC-3C5D-470C-8CED-D066B8F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F3B-4A26-4F14-9ECC-B56B6AE4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6E98-6D6E-4856-96B9-1DBCA194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886-BCA4-4462-AA48-73F1449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D1B-CBB5-4ECF-A4DD-E5E16F6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9F5-053A-4C09-8135-1D31FC77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DA1-666B-4361-977A-599A243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3097-5047-4DA4-8681-A5C960B03889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NEE</dc:creator>
  <dc:description/>
  <dc:language>en-US</dc:language>
  <cp:lastModifiedBy>Guest</cp:lastModifiedBy>
  <dcterms:modified xsi:type="dcterms:W3CDTF">2012-03-08T12:46:27Z</dcterms:modified>
  <cp:revision>2</cp:revision>
  <dc:subject>CNEE</dc:subject>
  <dc:title>CNEE</dc:title>
</cp:coreProperties>
</file>